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1.jpeg" ContentType="image/jpeg"/>
  <Override PartName="/ppt/media/image16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2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2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79DA-F360-4336-AF7F-E1D060E2B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9578-C05F-430F-8DF6-ADBECD340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3D36-D385-48CF-9CFF-24B9D5353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F265-11BE-4A79-A1D7-753230487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E2F2-94D9-4E9F-BB1B-BEA8DF47E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F508-7278-480A-BC12-A8E03499E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D124-F0AD-42F0-87ED-445CF0A38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762120" y="6094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odyear in 2001 identified 9 instructor roles!  Content facilitator, technologist, designer, manager/administrator, process facilitator, advisor/counselor, assessor, resear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stems approach to onlin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selors, enrollment process, orien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al desig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bject matter exp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assistants (assistance), tech, bookstore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pus Technology, October 2008 “Just-in-Time Support identifies 8 best practices for providing support to online 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itutionalize the basics – provide orientation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loaded Course Templ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ke sure faculty aren’t first responders for non-content related ques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st-in-Time Support  in development st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ntoring from experienced online instr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nk through pedagogy behind the technology tools-wikis, blogs, (why, how, wh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velop the above systems support (instructional tea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gin a COP for 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INT OUT CHALLENGE AREAS – discussion point – what do you see as challenge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Quality Indicators of Distance Education Identified in the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sults of a systematic literature review of 160 articles and twelve boo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American Journal of Distance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21(3), p. 145-16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ddition, a study completed by the NEA and Blackboard Inc., (Institute for Higher Education Policy study commissioned by NEA and Blackboard) released in 2000, found 24 quality benchmarks for success in internet-based distance education.  Shimp, in an unpublished dissertation completed in December 2007, reviewed 278 articles published in 4 journals from 2000-2006 and found the same benchmarks and 2 additional benchmar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-orientation to distance education courses or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er interaction with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s of Rubric Chico State Rubri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Learner Support &amp;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Online Organization and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Instructional Design/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Evaluation of Student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Innovative Teaching w/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 Use of Student Feed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lso an Instructional Design Tips for Online Learning developed by Joan Van Duzer, Humboldt State University) in conjunction with the Chico State Rub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what point will this no longer just be an alternat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F7C1-7568-4179-9293-1DEBB7CB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F9F8-D3DD-4DBD-8ECA-8F966840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F512-0415-4291-BB7D-B15D410E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FEBC-02DF-4B73-B725-692CE6D57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E2C3-1E07-4B80-867C-C198DD798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4BD7-94B2-4D62-86F0-A396E28D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AE91-1505-46F9-9E29-E05B60FD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7E58-ACEB-4F4D-96FE-FC9D6D16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C4D2-A766-4E69-BC23-D4A85BC3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E7EA-D59D-4083-9274-CC456ADF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9C85-093C-41F0-B6DB-D73FBEF6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28B7-519B-48BE-9B72-1090E8AE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479F-F5CF-4FDC-908D-7322344A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A859-AC8B-4F1C-9B7C-59705BAE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4582-BEE0-41C2-92AC-76F3B170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8105-9045-4E52-8CA3-421717A27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4ECC-DFF5-4186-B953-760789C6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7BE73-0E31-451A-9DEE-80DC693B2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71760-CABE-4A24-AC8E-BE940289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C2547-4850-4D86-A495-8783F047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70022-4F80-4F11-8C3B-4779BBE4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7F229-9112-4479-9A77-B824107B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21DA-77F3-4273-9FCB-2FE14995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62265-CE80-4632-A9AD-90803B16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A8DCA-02E0-419A-9A3F-27B7A40A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F0E23-2AE5-45F3-9361-8F136860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9069E-DA64-4233-8C9C-C5DABE3F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46EF5-24CE-4D82-A2BB-89FE40CF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99FA3-F07F-4FF8-9CED-170D9287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C5966-40F9-445D-A872-13A0D208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B3C94-EB8C-4FCC-AFA3-89B410EB3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198F8-4F17-42A3-9A9D-6AB9AD27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51615-7B0B-433C-8456-31A24F1F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40E4-2041-4020-80D9-16216FC1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AD0A7-912A-4810-A097-2A25D1A0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656CF-AB7B-4B41-BD0F-7BD83179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8B31D-9E5E-412B-8D5A-03E7A829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4A029-B672-401E-B9A7-8015D1CC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ED605-401E-4812-8EDA-DE072001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C3031-3AE6-4C33-84BF-9F7B2109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B2864-4E80-4A68-B987-88778824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A5597-8E13-4555-8AB6-132717AA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653E8-40C9-4C17-9E8A-9CD665BF0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C24CB-FA67-4D07-A0F0-EE46C2A4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C9FC-6173-4764-826B-FA0F3877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CE27C-D736-443D-B110-5AFB05C3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F7CE6-5275-44D2-B001-EE19BA69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CA1FD-40F0-478D-8252-642A1B39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0486D-2B63-47CB-8E04-6543D3CB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A10A7-A62C-4B73-8F5D-753F7C58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F2F00-B053-417C-AEA8-28D4BA81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1527A-0728-4097-8922-0A4B8ECA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026E1-E1DE-4DB6-B50F-26459297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1BCC1-B288-4EF6-807E-B6FC56B3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634F5-E212-4E0D-ACB7-8A22D62F5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FAB8-1594-4ABB-A8F9-F8B0D4AA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66AB6-25A3-46AA-AA3E-FF45CD07B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E4D64-27A7-4525-8301-241DC4B95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315CA-6799-4E06-AE51-1773CCCB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100A0-048C-4B7C-9675-F1665817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04484-2DAB-4FEC-8853-33DCD820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B264D-1AC8-4412-86FC-7C010D96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21ADC-85B0-474E-9E09-B2C4BB78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3E5B7-1867-4C47-9720-973E6BC9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A2D93-7012-418D-80F0-CA59967F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8A444-9AFF-40EF-B5D5-48612C48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5DB2-0CB9-4D61-8813-BBFBD14F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DE33C-F384-4FEA-AA51-5C222F21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B0AF2-8454-4F52-A1FF-BF9529EDC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DEFF5-3E94-4BF1-A1EB-9C474BD44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1D57-60EA-495F-B0A0-2C230CB7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E2F8-34A0-41B6-A1E3-8F9F4519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4BA7-95BD-48B8-B3B0-BEA1DEF5A6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0792-FCC5-43AF-A0CC-741D24C9B9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buClr>
                <a:srgbClr val="0000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buClr>
                <a:srgbClr val="0000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1F14-0F18-4429-81DD-73208E6A580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2166-0E2C-411A-9414-64D5F16B072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341F-90F8-44F2-819C-F8C259E2221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C627-B61A-48C2-8470-8FB149F24BA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utlertech.org/btol/" TargetMode="External"/><Relationship Id="rId2" Type="http://schemas.openxmlformats.org/officeDocument/2006/relationships/hyperlink" Target="http://www.butlertech.org/btol/" TargetMode="External"/><Relationship Id="rId3" Type="http://schemas.openxmlformats.org/officeDocument/2006/relationships/hyperlink" Target="http://www.butlertech.org/bto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3.xml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slide" Target="slide36.xml"/><Relationship Id="rId6" Type="http://schemas.openxmlformats.org/officeDocument/2006/relationships/image" Target="../media/image19.wmf"/><Relationship Id="rId7" Type="http://schemas.openxmlformats.org/officeDocument/2006/relationships/slide" Target="slide35.xml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distancelearn.about.com/od/virtualhighschools/a/OnlneHighQ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Bureau of Labor Statistics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66"/>
                </a:solidFill>
                <a:latin typeface="Verdana"/>
              </a:rPr>
              <a:t>Note: Data are 2007 annual averages for persons age 25 and over. Earnings are for full-time wage and salary workers. UPDATED APRIL 2008</a:t>
            </a:r>
            <a:br>
              <a:rPr sz="1300"/>
            </a:br>
            <a:br>
              <a:rPr sz="1300"/>
            </a:b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http://www.bls.gov/emp/emptab7.htm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st of University Affiliated Online H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nd to be expens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anford’s gifted-student program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$13,000 per year.  Courses range from $495 to $740 each w/additional $50 for materials &amp; shipping per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ossible to find schls that charge &lt; $150 per cre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University of Oklahoma High School costs $1,725 per year ($180 per course) in addition to several f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 Program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ch Program will pay for part time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udents spend ½ day in tech cent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&amp; tech center pays for supplemental academic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Erica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3110040"/>
            <a:ext cx="7772400" cy="29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tional Tre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klahomans’ Opin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National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lorid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Most wide-ranging virtual mandate in the 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tate law requires districts to create full-time virtual schools K-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ichigan: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Recent requirement that ALL graduates m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ave an online learning experience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(Other state-wide = Illinois &amp; Ida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innesot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Full-time virtual K-12, launched i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Elementary = 20% online + plastic tubs of materials @ home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Washington State &amp; Massachusetts: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exploring idea of increas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-led initiatives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to state-wid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http://www.palmbeachpost.com/search/content/local_news/epaper/2008/09/28/a1a_virtual_school_0929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http://www.sbe.wa.gov/documents/OnlineLearningMemo051408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Oklahoma Public Opinion P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egic Vision Phone Survey: April 25-27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200 Oklahoma Registered Vo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Selection using All Active Area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1% Female, 49% Male, 78% with K-12 child/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7% Democrats, 40% Republicans, 13%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7% White &amp; 75% w/Family Income +$5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gin of Error: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3 percentag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oll Sponsors:  Friedman Foundation &amp;  Oklahoma Council of Public Aff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Other Sponsors include:  The Department of Catholic Education-Archdiocese of Oklahoma City, Americans for Prosperity-Oklahoma, American Legislative Exchange Council, Black Alliance for Educational Options, Center for Education Reform, Connections Academy, Hispanic Council for Reform &amp; Educational Options, &amp; the National Catholic Educational Associ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cessed on October 10, 2008:  http://www.hcreo.org/files/1097_files_Friedman_OK_Survey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7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7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7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7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7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7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7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1000"/>
                            </p:stCondLst>
                            <p:childTnLst>
                              <p:par>
                                <p:cTn id="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7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4000"/>
                            </p:stCondLst>
                            <p:childTnLst>
                              <p:par>
                                <p:cTn id="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7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7000"/>
                            </p:stCondLst>
                            <p:childTnLst>
                              <p:par>
                                <p:cTn id="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7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Oklahomans Resp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 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2209680" y="-685800"/>
          <a:ext cx="609624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-685800"/>
                    <a:ext cx="609624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0" y="2590920"/>
          <a:ext cx="7010280" cy="21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90920"/>
                    <a:ext cx="701028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685880" cy="236232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  <p:graphicFrame>
        <p:nvGraphicFramePr>
          <p:cNvPr id="286" name=""/>
          <p:cNvGraphicFramePr/>
          <p:nvPr/>
        </p:nvGraphicFramePr>
        <p:xfrm>
          <a:off x="3505320" y="4451400"/>
          <a:ext cx="5638680" cy="2406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5320" y="4451400"/>
                    <a:ext cx="563868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1676520" y="3048120"/>
          <a:ext cx="7467480" cy="27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7467480" cy="27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152280" y="-533520"/>
          <a:ext cx="7720200" cy="329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-533520"/>
                    <a:ext cx="7720200" cy="32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-13680" y="6143760"/>
            <a:ext cx="59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*Published in April 2007 by the National Center for Educational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533520" y="4114800"/>
          <a:ext cx="82296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114800"/>
                    <a:ext cx="82296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014480" y="-142920"/>
          <a:ext cx="7151760" cy="34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4480" y="-142920"/>
                    <a:ext cx="715176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304920" y="0"/>
          <a:ext cx="8618400" cy="32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61840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6724800" y="3200400"/>
            <a:ext cx="2419200" cy="365760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153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High Schools &amp; the Future of High School Diplo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6840" y="3581280"/>
            <a:ext cx="80773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arrie Allday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rica Burns, Betsy Kisling, Stacy Meldrum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ndre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457200" y="-609480"/>
          <a:ext cx="8381880" cy="31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-609480"/>
                    <a:ext cx="838188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152280" y="2514600"/>
            <a:ext cx="3333960" cy="43434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6321600" y="2590920"/>
            <a:ext cx="2822400" cy="426708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Oklahoma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% of respondents are open to Virtual Schools even though 59% stated they had “not that familiar with” or had “never heard of” virtual, cyber, or online sch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1% are not satisfied with the current public school system.  The figure raises to 51% when excluding the “undecided” respon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K is lagging in online education possibil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900 OK Students </a:t>
            </a:r>
            <a:r>
              <a:rPr b="0" i="1" lang="en-US" sz="2800" spc="-1" strike="noStrike">
                <a:solidFill>
                  <a:srgbClr val="ffff66"/>
                </a:solidFill>
                <a:latin typeface="Baskerville Old Face"/>
              </a:rPr>
              <a:t>VS.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50,000 Florida Virtual Academy Students completing 90,000 courses in 2007/8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ac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rcRect l="0" t="22642" r="6249" b="5119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utler Tech Online - Hamilton, Oh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of the first online high schools in the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ffers a variety of options for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ull-time, part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ffers in conjunction with Academies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utlertech.org/bto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rcRect l="0" t="22642" r="6249" b="2965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4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klahoma Virtual High Schools – Oklahoma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of the first online high schools in 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wned by Advanced Aca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urriculum delivered in a variety of ways online (lecture, videos, Power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udents have a quick feeling of “success” because of frequent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"/>
          <p:cNvPicPr/>
          <p:nvPr/>
        </p:nvPicPr>
        <p:blipFill>
          <a:blip r:embed="rId1"/>
          <a:srcRect l="0" t="22642" r="6249" b="2965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ri-County Tech Center – Bartlesville,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ffers online learning through Advanced Aca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Utilized when students can’t fit an academic course in their schedule when enrolled at Tri-Cou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lab available to suppor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ree to student if they complete the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And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ccess Rat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finitions &amp;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ational Trends &amp; Oklahoma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uccess Rates &amp;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aculty Development Quality &amp; Future Fore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tate of Oklahoma Virtual High School Syste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1981080" y="914400"/>
            <a:ext cx="4648320" cy="838080"/>
          </a:xfrm>
          <a:custGeom>
            <a:avLst/>
            <a:gdLst>
              <a:gd name="textAreaLeft" fmla="*/ 54000 w 4648320"/>
              <a:gd name="textAreaRight" fmla="*/ 4594320 w 4648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19760" h="21600">
                <a:moveTo>
                  <a:pt x="0" y="0"/>
                </a:moveTo>
                <a:lnTo>
                  <a:pt x="119760" y="0"/>
                </a:lnTo>
                <a:lnTo>
                  <a:pt x="119760" y="21600"/>
                </a:lnTo>
                <a:lnTo>
                  <a:pt x="0" y="21600"/>
                </a:lnTo>
                <a:close/>
              </a:path>
              <a:path fill="lightenLess" w="119760" h="21600">
                <a:moveTo>
                  <a:pt x="0" y="0"/>
                </a:moveTo>
                <a:lnTo>
                  <a:pt x="119760" y="0"/>
                </a:lnTo>
                <a:lnTo>
                  <a:pt x="118360" y="1400"/>
                </a:lnTo>
                <a:lnTo>
                  <a:pt x="1400" y="1400"/>
                </a:lnTo>
                <a:close/>
              </a:path>
              <a:path fill="darken" w="119760" h="21600">
                <a:moveTo>
                  <a:pt x="119760" y="0"/>
                </a:moveTo>
                <a:lnTo>
                  <a:pt x="119760" y="21600"/>
                </a:lnTo>
                <a:lnTo>
                  <a:pt x="118360" y="20200"/>
                </a:lnTo>
                <a:lnTo>
                  <a:pt x="118360" y="1400"/>
                </a:lnTo>
                <a:close/>
              </a:path>
              <a:path fill="darkenLess" w="119760" h="21600">
                <a:moveTo>
                  <a:pt x="119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360" y="20200"/>
                </a:lnTo>
                <a:close/>
              </a:path>
              <a:path fill="lighten" w="119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dvanced Academics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rId2" action="ppaction://hlinksldjump"/>
          </p:cNvPr>
          <p:cNvSpPr/>
          <p:nvPr/>
        </p:nvSpPr>
        <p:spPr>
          <a:xfrm>
            <a:off x="2514600" y="2057400"/>
            <a:ext cx="3657600" cy="685800"/>
          </a:xfrm>
          <a:custGeom>
            <a:avLst/>
            <a:gdLst>
              <a:gd name="textAreaLeft" fmla="*/ 44280 w 3657600"/>
              <a:gd name="textAreaRight" fmla="*/ 3613320 w 3657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5151" h="21600">
                <a:moveTo>
                  <a:pt x="0" y="0"/>
                </a:moveTo>
                <a:lnTo>
                  <a:pt x="115151" y="0"/>
                </a:lnTo>
                <a:lnTo>
                  <a:pt x="115151" y="21600"/>
                </a:lnTo>
                <a:lnTo>
                  <a:pt x="0" y="21600"/>
                </a:lnTo>
                <a:close/>
              </a:path>
              <a:path fill="lightenLess" w="115151" h="21600">
                <a:moveTo>
                  <a:pt x="0" y="0"/>
                </a:moveTo>
                <a:lnTo>
                  <a:pt x="115151" y="0"/>
                </a:lnTo>
                <a:lnTo>
                  <a:pt x="113751" y="1400"/>
                </a:lnTo>
                <a:lnTo>
                  <a:pt x="1400" y="1400"/>
                </a:lnTo>
                <a:close/>
              </a:path>
              <a:path fill="darken" w="115151" h="21600">
                <a:moveTo>
                  <a:pt x="115151" y="0"/>
                </a:moveTo>
                <a:lnTo>
                  <a:pt x="115151" y="21600"/>
                </a:lnTo>
                <a:lnTo>
                  <a:pt x="113751" y="20200"/>
                </a:lnTo>
                <a:lnTo>
                  <a:pt x="113751" y="1400"/>
                </a:lnTo>
                <a:close/>
              </a:path>
              <a:path fill="darkenLess" w="115151" h="21600">
                <a:moveTo>
                  <a:pt x="115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51" y="20200"/>
                </a:lnTo>
                <a:close/>
              </a:path>
              <a:path fill="lighten" w="115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High 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76520" y="320040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klahoma 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676520" y="38098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m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676520" y="44956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ts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1814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676520" y="58672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h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" y="22096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School Distric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04560" y="259092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2590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343400" y="17524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2743200" y="213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5486400" y="2133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5334120" y="28954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562720" y="28191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800600" y="3962520"/>
            <a:ext cx="1447920" cy="13287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705720" y="434340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 High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9-12 gra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248520" y="4724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276720" y="3505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27672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33920" y="35053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733560" y="46483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09880" y="388620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of Instruction Ex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3276720" y="4038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3276720" y="4724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276720" y="5410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114800"/>
            <a:ext cx="874440" cy="8478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523880" y="327672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294920" y="4648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124080"/>
            <a:ext cx="838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chool Dipl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3733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1523880" y="601992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523880" y="40384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1523880" y="47242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523880" y="54100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1523880" y="342900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3124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peed Int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5791320" y="3352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Academics, Inc., a subsidiary of DeVry Inc. (NYSE:D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porate office in OKC (Bricktow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pany was founded by educators who have a passion for student success. Since its inception in 200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Academics has implemented online learning programs in schools and districts across 30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2002, the company received regional accreditation as a diploma-granting institution from the North Central Association Commission on Accreditation (N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national accreditation from the Commission on International and Trans-Regional Accreditation (CITA). We gained these accreditations in order to validate our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rId1" action="ppaction://hlinksldjump"/>
          </p:cNvPr>
          <p:cNvSpPr/>
          <p:nvPr/>
        </p:nvSpPr>
        <p:spPr>
          <a:xfrm>
            <a:off x="7772400" y="57913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nfrastructure 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(c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,000,000 (Initial start u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 500,000 (Annuall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3520" y="3352680"/>
            <a:ext cx="8229600" cy="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09480" y="3505320"/>
            <a:ext cx="82296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Arial"/>
                <a:ea typeface="Osaka"/>
              </a:rPr>
              <a:t>(Revenue) </a:t>
            </a:r>
            <a:r>
              <a:rPr b="0" i="1" lang="en-US" sz="1600" spc="-1" strike="noStrike">
                <a:solidFill>
                  <a:srgbClr val="ffff66"/>
                </a:solidFill>
                <a:latin typeface="Arial"/>
                <a:ea typeface="Osaka"/>
              </a:rPr>
              <a:t>Oklahom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4,500 per-stude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Osaka"/>
              </a:rPr>
              <a:t>(average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@ 945 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= 4,252,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7696080" y="6019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is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of Oklahoma Dept. of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ool 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ced Academ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f full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752480" y="685800"/>
            <a:ext cx="0" cy="510552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391520" y="685800"/>
            <a:ext cx="0" cy="510552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1" action="ppaction://hlinksldjump"/>
          </p:cNvPr>
          <p:cNvSpPr/>
          <p:nvPr/>
        </p:nvSpPr>
        <p:spPr>
          <a:xfrm>
            <a:off x="80010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Retention Rates / Success 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Nationally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(week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courses 88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enrolled in courses 74% (6,58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active 62% (5,5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klahoma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(week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Students 9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enrolled courses 29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enrolled courses that are active 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active courses on track 5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enrolled courses completed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1" action="ppaction://hlinksldjump"/>
          </p:cNvPr>
          <p:cNvSpPr/>
          <p:nvPr/>
        </p:nvSpPr>
        <p:spPr>
          <a:xfrm>
            <a:off x="8077320" y="59436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0800" y="3844"/>
                </a:moveTo>
                <a:lnTo>
                  <a:pt x="13376" y="6455"/>
                </a:ln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lnTo>
                  <a:pt x="17763" y="10807"/>
                </a:lnTo>
                <a:lnTo>
                  <a:pt x="16109" y="10807"/>
                </a:lnTo>
                <a:lnTo>
                  <a:pt x="16109" y="17997"/>
                </a:lnTo>
                <a:lnTo>
                  <a:pt x="5491" y="17997"/>
                </a:lnTo>
                <a:lnTo>
                  <a:pt x="5491" y="10807"/>
                </a:lnTo>
                <a:lnTo>
                  <a:pt x="3837" y="10807"/>
                </a:lnTo>
                <a:close/>
              </a:path>
              <a:path fill="darkenLess" w="21600" h="21615">
                <a:moveTo>
                  <a:pt x="13376" y="6455"/>
                </a:move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close/>
              </a:path>
              <a:path fill="darkenLess" w="21600" h="21615">
                <a:moveTo>
                  <a:pt x="9877" y="14306"/>
                </a:moveTo>
                <a:lnTo>
                  <a:pt x="11723" y="14306"/>
                </a:lnTo>
                <a:lnTo>
                  <a:pt x="11723" y="17997"/>
                </a:lnTo>
                <a:lnTo>
                  <a:pt x="16109" y="17997"/>
                </a:lnTo>
                <a:lnTo>
                  <a:pt x="16109" y="10807"/>
                </a:lnTo>
                <a:lnTo>
                  <a:pt x="5491" y="10807"/>
                </a:lnTo>
                <a:lnTo>
                  <a:pt x="5491" y="17997"/>
                </a:lnTo>
                <a:lnTo>
                  <a:pt x="9877" y="1799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Elig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PA 2.00 (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IEP'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EOI (End of Instruction) s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in OKC public schools (must be a OKC high school drop out or ask for an open transf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ine high school diploma will be the same as traditional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take year book picture, attend prom, walk at graduation etc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62120" y="3886200"/>
            <a:ext cx="7772400" cy="0"/>
          </a:xfrm>
          <a:prstGeom prst="line">
            <a:avLst/>
          </a:prstGeom>
          <a:ln w="284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" action="ppaction://hlinksldjump"/>
          </p:cNvPr>
          <p:cNvSpPr/>
          <p:nvPr/>
        </p:nvSpPr>
        <p:spPr>
          <a:xfrm>
            <a:off x="80010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ets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aculty Development Qualit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uture Foreca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ulty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Online instructor’s role requires a paradigm shift in perceptions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instructional time &amp; space</a:t>
            </a:r>
            <a:r>
              <a:rPr b="1" lang="en-US" sz="2800" spc="-1" strike="noStrike">
                <a:solidFill>
                  <a:srgbClr val="ffffff"/>
                </a:solidFill>
                <a:latin typeface="Baskerville Old Face"/>
              </a:rPr>
              <a:t>,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Baskerville Old Face"/>
              </a:rPr>
              <a:t>virtual management techniques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, &amp;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ways of engaging students through virtual communications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.”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(Easton, 200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ystems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Just-in-Ti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ality Indicators of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tance Edu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Based on results of a systematic literature review of 160 articles and twelve boo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8390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tudent-teacher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mpt feedback from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gram evaluation &amp;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lear analysis of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ocumented technology plan to ensure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nstitutional support &amp; institution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urse structure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1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1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3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4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505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9506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arri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3110040"/>
            <a:ext cx="7772400" cy="29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o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Indicators o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ce Education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tive learn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spect diverse ways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aculty suppor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trong rationale for distance education that correlates to the mission of the i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ropriate tools an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liability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mplementation of guidelines for course development and review of instructional materials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he American Journal of Distance Educatio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21(3), p. 145-1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2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3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4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1505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2506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7507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ing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ality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ssess with a Ru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lifornia State University, Chico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 User’s Guide to Online Co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www.nea.org/technology/distanced/high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How to Choose an Online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andout retrieved 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istancelearn.about.com/od/virtualhighschools/a/OnlneHighQ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the bottom l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t has more to do with whether this is a good way for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) student to learn. To me, I look at online learning not as something that’s going to be the savior of education,” she said. “This is one alternative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ngela Specketer, Principal of Minnesota Virtual Acade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(full-time virtual started in 20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uture Forec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at do you see as the challen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52280" y="1698480"/>
            <a:ext cx="899172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60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Osaka"/>
              </a:rPr>
              <a:t>Meeting individual learner’s needs &amp;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iverse learning styles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Osak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EPs – truly customer foc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tive participation, engagement,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ropriate use of tools, technologies, methods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klahoma education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What e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finitions &amp;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ational Trends &amp; Oklahoma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uccess Rates &amp;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aculty Development Quality &amp; Future Fore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828800" y="55627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Conclus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line Learning is 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It is Here to St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o…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"/>
          <p:cNvSpPr/>
          <p:nvPr/>
        </p:nvSpPr>
        <p:spPr>
          <a:xfrm>
            <a:off x="4952880" y="426708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et Over Yourself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2"/>
          <a:srcRect l="15835" t="0" r="8163" b="14006"/>
          <a:stretch/>
        </p:blipFill>
        <p:spPr>
          <a:xfrm>
            <a:off x="1600200" y="3200400"/>
            <a:ext cx="2347920" cy="3276720"/>
          </a:xfrm>
          <a:prstGeom prst="rect">
            <a:avLst/>
          </a:prstGeom>
          <a:ln w="1908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</p:pic>
      <p:sp>
        <p:nvSpPr>
          <p:cNvPr id="407" name=""/>
          <p:cNvSpPr/>
          <p:nvPr/>
        </p:nvSpPr>
        <p:spPr>
          <a:xfrm>
            <a:off x="304920" y="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100"/>
                            </p:stCondLst>
                            <p:childTnLst>
                              <p:par>
                                <p:cTn id="2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4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100"/>
                            </p:stCondLst>
                            <p:childTnLst>
                              <p:par>
                                <p:cTn id="2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100"/>
                            </p:stCondLst>
                            <p:childTnLst>
                              <p:par>
                                <p:cTn id="2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2000" fill="hold"/>
                                        <p:tgtEl>
                                          <p:spTgt spid="4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udience Respons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438280" y="3044520"/>
            <a:ext cx="4572000" cy="20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ments 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oncerns #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25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25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25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625"/>
                            </p:stCondLst>
                            <p:childTnLst>
                              <p:par>
                                <p:cTn id="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25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25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25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125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25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25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25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re Online High Schoo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19807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ublic or private schools that allow students to work with their curriculum &amp; teachers using the Internet, rather than in a traditional classroom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ption for students wh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eed to stay home for health rea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sire to work at their own 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nd themselves unable to concentrate on their work in the traditional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eed to schedule their learning around a care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High School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ypes of Online High Sch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- Public/Ch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- Pr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3- University Affili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t of Public Online HS in 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2280" y="13712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urrently OK has 900 students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#s continue to increase based on how many students the 6 partnering schls will 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ree for full time students (6 courses/semes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art Time Students pay $400 per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enerally provide curriculum &amp; other materials at no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ome offer computer leases &amp; pay for student internet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t of Private Online H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o Private online in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nd to be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(possible to find non-profit progr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ome are as much as $16,000 for a 4-year diploma pro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ossible to find low-cost alterna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like Penn Foster complete diplom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pprox. $1,2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14:35:21Z</dcterms:created>
  <dc:creator>Erica Burns</dc:creator>
  <dc:description/>
  <dc:language>en-US</dc:language>
  <cp:lastModifiedBy>Andre Washington</cp:lastModifiedBy>
  <dcterms:modified xsi:type="dcterms:W3CDTF">2008-10-20T23:41:06Z</dcterms:modified>
  <cp:revision>111</cp:revision>
  <dc:subject/>
  <dc:title>Online High Schools &amp; the Future of High School Diplomas</dc:title>
</cp:coreProperties>
</file>